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wmf" ContentType="image/x-wmf"/>
  <Override PartName="/ppt/media/image24.wmf" ContentType="image/x-wmf"/>
  <Override PartName="/ppt/media/image3.wmf" ContentType="image/x-wmf"/>
  <Override PartName="/ppt/media/image13.wmf" ContentType="image/x-wmf"/>
  <Override PartName="/ppt/media/image2.png" ContentType="image/png"/>
  <Override PartName="/ppt/media/image10.wmf" ContentType="image/x-wmf"/>
  <Override PartName="/ppt/media/image5.wmf" ContentType="image/x-wmf"/>
  <Override PartName="/ppt/media/image30.png" ContentType="image/png"/>
  <Override PartName="/ppt/media/image28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29.png" ContentType="image/png"/>
  <Override PartName="/ppt/media/image14.wmf" ContentType="image/x-wmf"/>
  <Override PartName="/ppt/media/image26.wmf" ContentType="image/x-wmf"/>
  <Override PartName="/ppt/media/arrow.wav" ContentType="audio/x-wav"/>
  <Override PartName="/ppt/media/image9.jpeg" ContentType="image/jpeg"/>
  <Override PartName="/ppt/media/image23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21BC-E2BE-468A-BE9F-17C67E950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5D46-D38B-4CF1-995A-0790D1896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8020-77B3-43E4-BAF4-3423D8496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704E-030F-4E5D-868E-19D6B8ED0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765F-4904-4654-8BF3-BBEDB2167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3DA9-4650-4E3E-9590-F867ECA30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95B2-8B8D-4DB6-AA0A-672206441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8BB2-BBB2-41C6-B1EF-C40BC7D65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24C2-1F0B-4024-8867-75275316B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70F1-4CE1-4431-96D1-CA7E54401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6BA4-CA72-48AA-A7EF-67633EB00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646F-2D16-40C1-8B36-06A22826C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A62C9-1257-49F6-8AEC-306C3E4A44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6.wmf"/><Relationship Id="rId3" Type="http://schemas.openxmlformats.org/officeDocument/2006/relationships/image" Target="../media/image26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image" Target="../media/image28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10.wmf"/><Relationship Id="rId7" Type="http://schemas.openxmlformats.org/officeDocument/2006/relationships/image" Target="../media/image11.wmf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image" Target="../media/image14.wmf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8.wmf"/><Relationship Id="rId3" Type="http://schemas.openxmlformats.org/officeDocument/2006/relationships/image" Target="../media/image18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1.wmf"/><Relationship Id="rId3" Type="http://schemas.openxmlformats.org/officeDocument/2006/relationships/image" Target="../media/image21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3.wmf"/><Relationship Id="rId3" Type="http://schemas.openxmlformats.org/officeDocument/2006/relationships/image" Target="../media/image23.wm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99ff"/>
                </a:solidFill>
                <a:latin typeface="Kahootz Fatty"/>
              </a:rPr>
              <a:t>Planets</a:t>
            </a: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92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ff"/>
                </a:solidFill>
                <a:latin typeface="Arial"/>
              </a:rPr>
              <a:t>By Meagan Ca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 rot="18273000">
            <a:off x="7740000" y="3861000"/>
            <a:ext cx="640080" cy="63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280"/>
                            </p:stCondLst>
                            <p:childTnLst>
                              <p:par>
                                <p:cTn id="1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animMotion origin="layout" path="M -0.03559 -0.0384 C -0.03593 -0.05644 -0.03211 -0.08952 -0.04375 -0.10595 C -0.0467 -0.11705 -0.04496 -0.11242 -0.04843 -0.12006 C -0.04878 -0.12376 -0.04878 -0.12746 -0.04965 -0.13093 C -0.05121 -0.13741 -0.05538 -0.14273 -0.05677 -0.14967 C -0.0592 -0.1617 -0.06076 -0.17534 -0.06614 -0.18575 C -0.071 -0.20518 -0.06927 -0.22947 -0.07795 -0.24705 C -0.07934 -0.25284 -0.08003 -0.25746 -0.08264 -0.26255 C -0.0835 -0.26417 -0.08489 -0.26741 -0.08489 -0.26741 E">
                                      <p:cBhvr>
                                        <p:cTn id="13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280"/>
                            </p:stCondLst>
                            <p:childTnLst>
                              <p:par>
                                <p:cTn id="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489 -0.26718 C -0.15086 -0.26857 -0.21562 -0.27296 -0.28142 -0.27643 C -0.2934 -0.28198 -0.30364 -0.28314 -0.31666 -0.2843 C -0.33281 -0.28869 -0.32308 -0.28661 -0.35555 -0.28754 C -0.39426 -0.28869 -0.47187 -0.29054 -0.47187 -0.29054 C -0.50277 -0.29239 -0.53263 -0.29702 -0.56371 -0.29841 C -0.57013 -0.30049 -0.57465 -0.30211 -0.58142 -0.30327 C -0.58715 -0.30697 -0.59305 -0.30859 -0.59895 -0.3109 C -0.61996 -0.30997 -0.64045 -0.30627 -0.66128 -0.30627 E">
                                      <p:cBhvr>
                                        <p:cTn id="16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280"/>
                            </p:stCondLst>
                            <p:childTnLst>
                              <p:par>
                                <p:cTn id="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6128 -0.30627 C -0.66406 -0.30511 -0.66719 -0.30534 -0.66962 -0.30326 C -0.67917 -0.2947 -0.66319 -0.30095 -0.67656 -0.29701 C -0.68142 -0.29054 -0.68507 -0.28452 -0.68958 -0.27805 C -0.69167 -0.27018 -0.69687 -0.26209 -0.70139 -0.25607 C -0.70174 -0.25353 -0.70156 -0.25075 -0.70243 -0.24844 C -0.70312 -0.24636 -0.70503 -0.24543 -0.70608 -0.24358 C -0.70868 -0.23942 -0.70972 -0.2341 -0.71198 -0.22947 C -0.71458 -0.21397 -0.71059 -0.23201 -0.71667 -0.2186 C -0.71753 -0.21675 -0.71736 -0.21443 -0.71788 -0.21235 C -0.72222 -0.19662 -0.72674 -0.18112 -0.73073 -0.16516 C -0.73108 -0.14735 -0.73194 -0.11196 -0.73194 -0.11196 E">
                                      <p:cBhvr>
                                        <p:cTn id="19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7280"/>
                            </p:stCondLst>
                            <p:childTnLst>
                              <p:par>
                                <p:cTn id="2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3195 -0.11173 C -0.72205 -0.04465 -0.7257 -0.08397 -0.7257 0.00601 E">
                                      <p:cBhvr>
                                        <p:cTn id="22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3" dur="1" fill="hold">
                                    <p:stCondLst>
                                      <p:cond evt="end">
                                        <p:tn val="21"/>
                                      </p:cond>
                                    </p:stCondLst>
                                  </p:cTn>
                                  <p:tgtEl>
                                    <p:spTgt spid="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7c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5651640" y="3284640"/>
            <a:ext cx="3046320" cy="266544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SzPct val="10298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luto is the 9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closest (dwarf) planet to the su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SzPct val="10298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diameter of Pluto is 2360 kilometr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SzPct val="10298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luto has 3 moon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SzPct val="10298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t takes Pluto 258 Earth years to orbit the sun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059280" y="189000"/>
            <a:ext cx="2592360" cy="88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999"/>
                    </a:gs>
                    <a:gs pos="100000">
                      <a:srgbClr val="00ccf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iner Hand ITC"/>
              </a:rPr>
              <a:t>Pluto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9999"/>
                  </a:gs>
                  <a:gs pos="100000">
                    <a:srgbClr val="00ccff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Viner Hand ITC"/>
              <a:ea typeface="Viner Hand ITC"/>
            </a:endParaRPr>
          </a:p>
        </p:txBody>
      </p:sp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468360" y="3319560"/>
            <a:ext cx="2663640" cy="28224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7589880" y="0"/>
            <a:ext cx="1554120" cy="18032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11280" y="190656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3600" spc="-1" strike="noStrike">
                <a:solidFill>
                  <a:srgbClr val="cc00cc"/>
                </a:solidFill>
                <a:latin typeface="comic"/>
              </a:rPr>
              <a:t>Pear tre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898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98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98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3000"/>
                            </p:stCondLst>
                            <p:childTnLst>
                              <p:par>
                                <p:cTn id="26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898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4211640" y="2781360"/>
            <a:ext cx="4645080" cy="22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HE END!!!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My mnoenic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i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nchk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ea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n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ar tr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88000" y="2852640"/>
            <a:ext cx="4176720" cy="3384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SzPct val="10298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ercury is the closest planet to the su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SzPct val="10298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diameter of Mercury is 4,878km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SzPct val="10298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ercury has no moon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SzPct val="10298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t takes 88 days for Mercury to orbit the su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SzPct val="10298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t takes 58.6 days for mercury to rotate all the way aroun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6"/>
          <a:stretch/>
        </p:blipFill>
        <p:spPr>
          <a:xfrm>
            <a:off x="468360" y="3213000"/>
            <a:ext cx="3672000" cy="2865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900000" y="260280"/>
            <a:ext cx="6048360" cy="112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ccff"/>
                    </a:gs>
                    <a:gs pos="50000">
                      <a:srgbClr val="dddddd"/>
                    </a:gs>
                    <a:gs pos="100000">
                      <a:srgbClr val="99ccf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Kahootz Karate"/>
              </a:rPr>
              <a:t>Mercury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99ccff"/>
                  </a:gs>
                  <a:gs pos="50000">
                    <a:srgbClr val="dddddd"/>
                  </a:gs>
                  <a:gs pos="100000">
                    <a:srgbClr val="99ccff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Kahootz Karate"/>
              <a:ea typeface="Kahootz Karate"/>
            </a:endParaRPr>
          </a:p>
        </p:txBody>
      </p:sp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7586640" y="0"/>
            <a:ext cx="1557360" cy="1814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11280" y="1844640"/>
            <a:ext cx="28810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4500" spc="-1" strike="noStrike">
                <a:solidFill>
                  <a:srgbClr val="ff9933"/>
                </a:solidFill>
                <a:latin typeface="Edwardian Script ITC"/>
              </a:rPr>
              <a:t>My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comb dir="horz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0"/>
                            </p:stCondLst>
                            <p:childTnLst>
                              <p:par>
                                <p:cTn id="5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33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5866920" y="2997360"/>
            <a:ext cx="2737080" cy="352728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00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buSzPct val="10285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Venus is the second closest to the su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SzPct val="1028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e diameter of Venus is 12,104 k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SzPct val="1028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Venus has no mo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SzPct val="1028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t takes Venus 227.4 earth days to orbit the su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SzPct val="10285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t takes Venus 225 earth days to rotate around it’s axi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619280" y="260280"/>
            <a:ext cx="51134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99ff"/>
                    </a:gs>
                    <a:gs pos="50000">
                      <a:srgbClr val="0066ff"/>
                    </a:gs>
                    <a:gs pos="100000">
                      <a:srgbClr val="0099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Kahootz Fatty"/>
              </a:rPr>
              <a:t>venu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99ff"/>
                  </a:gs>
                  <a:gs pos="50000">
                    <a:srgbClr val="0066ff"/>
                  </a:gs>
                  <a:gs pos="100000">
                    <a:srgbClr val="0099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Kahootz Fatty"/>
              <a:ea typeface="Kahootz Fatty"/>
            </a:endParaRPr>
          </a:p>
        </p:txBody>
      </p:sp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755640" y="3213000"/>
            <a:ext cx="3382920" cy="3165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7594560" y="0"/>
            <a:ext cx="1549440" cy="18111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826920" y="213372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3600" spc="-1" strike="noStrike">
                <a:solidFill>
                  <a:srgbClr val="00ffcc"/>
                </a:solidFill>
                <a:latin typeface="Kahootz Mezzo"/>
              </a:rPr>
              <a:t>Ve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85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5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745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00ffcc"/>
            </a:gs>
            <a:gs pos="100000">
              <a:srgbClr val="33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148360" y="2924280"/>
            <a:ext cx="3527280" cy="367344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3399ff"/>
              </a:gs>
              <a:gs pos="100000">
                <a:srgbClr val="00ff00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SzPct val="10275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arth is third closest to the su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SzPct val="102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arth diameter is 12,753 k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SzPct val="1027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arth has 1 mo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SzPct val="1027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t takes earth 365 days to orbit the su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SzPct val="10275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t takes earth 24 hours to rotate around the axi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619280" y="260280"/>
            <a:ext cx="4608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3399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Kahootz Computer"/>
              </a:rPr>
              <a:t>Earth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100000">
                    <a:srgbClr val="3399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Kahootz Computer"/>
              <a:ea typeface="Kahootz Computer"/>
            </a:endParaRPr>
          </a:p>
        </p:txBody>
      </p:sp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>
            <a:off x="611280" y="3213000"/>
            <a:ext cx="3241440" cy="32958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68360" y="220500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3600" spc="-1" strike="noStrike">
                <a:solidFill>
                  <a:srgbClr val="ffffff"/>
                </a:solidFill>
                <a:latin typeface="comic"/>
              </a:rPr>
              <a:t>Exci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7599240" y="0"/>
            <a:ext cx="1544760" cy="180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0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ff3300"/>
            </a:gs>
            <a:gs pos="100000">
              <a:srgbClr val="ff99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5003280" y="2997000"/>
            <a:ext cx="3745080" cy="338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ff6600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SzPct val="10298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rs is the fourth closest to the su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SzPct val="10298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diameter of Mars is 6794 kilometre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SzPct val="10298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rs has 2 moon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SzPct val="10298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t takes Mars 687 earth days to orbit the su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SzPct val="10298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t takes Mars 24h and 37 minutes to rotate around it’s axi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468360" y="3033720"/>
            <a:ext cx="3311640" cy="30970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1116000" y="260280"/>
            <a:ext cx="6048360" cy="97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6600"/>
                    </a:gs>
                    <a:gs pos="50000">
                      <a:srgbClr val="ff0000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ivaldi"/>
              </a:rPr>
              <a:t>Mar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6600"/>
                  </a:gs>
                  <a:gs pos="50000">
                    <a:srgbClr val="ff0000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Vivaldi"/>
              <a:ea typeface="Vivaldi"/>
            </a:endParaRPr>
          </a:p>
        </p:txBody>
      </p:sp>
      <p:pic>
        <p:nvPicPr>
          <p:cNvPr id="62" name="" descr=""/>
          <p:cNvPicPr/>
          <p:nvPr/>
        </p:nvPicPr>
        <p:blipFill>
          <a:blip r:embed="rId7"/>
          <a:stretch/>
        </p:blipFill>
        <p:spPr>
          <a:xfrm>
            <a:off x="7596360" y="0"/>
            <a:ext cx="1547640" cy="18050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39640" y="213372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3600" spc="-1" strike="noStrike">
                <a:solidFill>
                  <a:srgbClr val="ff7c80"/>
                </a:solidFill>
                <a:latin typeface="Antique Olive"/>
              </a:rPr>
              <a:t>Munchk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50000">
              <a:srgbClr val="ff9933"/>
            </a:gs>
            <a:gs pos="100000">
              <a:srgbClr val="ff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5364000" y="2708280"/>
            <a:ext cx="3168720" cy="367344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50000">
                <a:srgbClr val="ff9966"/>
              </a:gs>
              <a:gs pos="100000">
                <a:srgbClr val="ff6600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SzPct val="10275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Jupiter is the 5</a:t>
            </a:r>
            <a:r>
              <a:rPr b="0" lang="en-US" sz="21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closest planets to the su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SzPct val="102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diameter of is142,984 KM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SzPct val="1027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Jupiter has 63 moon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SzPct val="1027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t takes Jupiter 12 earth years to orbit the su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987640" y="260280"/>
            <a:ext cx="3384720" cy="101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6600"/>
                    </a:gs>
                    <a:gs pos="50000">
                      <a:srgbClr val="ff9966"/>
                    </a:gs>
                    <a:gs pos="100000">
                      <a:srgbClr val="ff6600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Papyrus"/>
              </a:rPr>
              <a:t>Jupiter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6600"/>
                  </a:gs>
                  <a:gs pos="50000">
                    <a:srgbClr val="ff9966"/>
                  </a:gs>
                  <a:gs pos="100000">
                    <a:srgbClr val="ff6600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Papyrus"/>
              <a:ea typeface="Papyrus"/>
            </a:endParaRPr>
          </a:p>
        </p:txBody>
      </p:sp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395280" y="2703600"/>
            <a:ext cx="3600360" cy="33685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7599240" y="0"/>
            <a:ext cx="1544760" cy="18018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826920" y="1557360"/>
            <a:ext cx="259272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4900" spc="-1" strike="noStrike">
                <a:solidFill>
                  <a:srgbClr val="3399ff"/>
                </a:solidFill>
                <a:latin typeface="Kahootz Grunj 2"/>
              </a:rPr>
              <a:t>Jump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pull dir="rd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500"/>
                            </p:stCondLst>
                            <p:childTnLst>
                              <p:par>
                                <p:cTn id="161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500"/>
                            </p:stCondLst>
                            <p:childTnLst>
                              <p:par>
                                <p:cTn id="171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ff7c80"/>
            </a:gs>
            <a:gs pos="100000">
              <a:srgbClr val="ff99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5435640" y="3068280"/>
            <a:ext cx="3168720" cy="360036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ff9966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SzPct val="10275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aturn is the 6</a:t>
            </a:r>
            <a:r>
              <a:rPr b="0" lang="en-US" sz="21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closest planet to the su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SzPct val="102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diameter of Saturn is 120, 536 kilometre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SzPct val="1027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aturn has 61 mo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SzPct val="1027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t takes Saturn 29,43 earth years to orbit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su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468360" y="3173400"/>
            <a:ext cx="3166920" cy="2962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2627280" y="189000"/>
            <a:ext cx="3673440" cy="86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966"/>
                    </a:gs>
                    <a:gs pos="100000">
                      <a:srgbClr val="ff505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Kahootz Fres2"/>
              </a:rPr>
              <a:t>Saturn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9966"/>
                  </a:gs>
                  <a:gs pos="100000">
                    <a:srgbClr val="ff505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Kahootz Fres2"/>
              <a:ea typeface="Kahootz Fres2"/>
            </a:endParaRPr>
          </a:p>
        </p:txBody>
      </p:sp>
      <p:pic>
        <p:nvPicPr>
          <p:cNvPr id="72" name="" descr=""/>
          <p:cNvPicPr/>
          <p:nvPr/>
        </p:nvPicPr>
        <p:blipFill>
          <a:blip r:embed="rId6"/>
          <a:stretch/>
        </p:blipFill>
        <p:spPr>
          <a:xfrm>
            <a:off x="7594560" y="0"/>
            <a:ext cx="1549440" cy="18064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26920" y="1989000"/>
            <a:ext cx="26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3600" spc="-1" strike="noStrike">
                <a:solidFill>
                  <a:srgbClr val="ff3300"/>
                </a:solidFill>
                <a:latin typeface="Agency FB"/>
              </a:rPr>
              <a:t>Squea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500"/>
                            </p:stCondLst>
                            <p:childTnLst>
                              <p:par>
                                <p:cTn id="185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9200"/>
                            </p:stCondLst>
                            <p:childTnLst>
                              <p:par>
                                <p:cTn id="191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1700"/>
                            </p:stCondLst>
                            <p:childTnLst>
                              <p:par>
                                <p:cTn id="197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33cc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5651640" y="2997000"/>
            <a:ext cx="2736720" cy="360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524"/>
              </a:spcBef>
              <a:buSzPct val="10275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ranus 7</a:t>
            </a:r>
            <a:r>
              <a:rPr b="0" lang="en-US" sz="21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closest planet to the su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24"/>
              </a:spcBef>
              <a:buSzPct val="102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diameter of Uranus is 51 118 kilometre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24"/>
              </a:spcBef>
              <a:buSzPct val="1027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ranus has 27 mo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24"/>
              </a:spcBef>
              <a:buSzPct val="1027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t takes Uranus 84.02 years to orbit the sun                                    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468360" y="2978280"/>
            <a:ext cx="3382920" cy="31654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2556000" y="404640"/>
            <a:ext cx="4103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ccff"/>
                    </a:gs>
                    <a:gs pos="100000">
                      <a:srgbClr val="fffff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Lucida Calligraphy"/>
              </a:rPr>
              <a:t>Uranu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50000">
                    <a:srgbClr val="00ccff"/>
                  </a:gs>
                  <a:gs pos="100000">
                    <a:srgbClr val="ffffff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Lucida Calligraphy"/>
              <a:ea typeface="Lucida Calligraphy"/>
            </a:endParaRPr>
          </a:p>
        </p:txBody>
      </p:sp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7589880" y="0"/>
            <a:ext cx="1554120" cy="17953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755640" y="234936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3600" spc="-1" strike="noStrike">
                <a:solidFill>
                  <a:srgbClr val="ff3399"/>
                </a:solidFill>
                <a:latin typeface="Onyx"/>
              </a:rPr>
              <a:t>U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3000"/>
                            </p:stCondLst>
                            <p:childTnLst>
                              <p:par>
                                <p:cTn id="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00ffcc"/>
            </a:gs>
            <a:gs pos="100000">
              <a:srgbClr val="33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003280" y="3141720"/>
            <a:ext cx="3529080" cy="324000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50000">
                <a:srgbClr val="33ccff"/>
              </a:gs>
              <a:gs pos="100000">
                <a:srgbClr val="00ffcc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SzPct val="10275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eptune is the 8</a:t>
            </a:r>
            <a:r>
              <a:rPr b="0" lang="en-US" sz="21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planet closest to the su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SzPct val="102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diameter of Neptune is 49,528 k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SzPct val="1027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eptune has 13 mo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SzPct val="1027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t takes Neptune 164.8 Earth years to orbit the sun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250920" y="3213000"/>
            <a:ext cx="2520720" cy="30574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2700360" y="476280"/>
            <a:ext cx="3160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00ffcc"/>
                    </a:gs>
                    <a:gs pos="100000">
                      <a:srgbClr val="33ccf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Vladimir Script"/>
              </a:rPr>
              <a:t>Neptune</a:t>
            </a:r>
            <a:endParaRPr b="0" lang="en-US" sz="6000" spc="1" strike="noStrike">
              <a:ln w="0">
                <a:noFill/>
              </a:ln>
              <a:gradFill rotWithShape="0">
                <a:gsLst>
                  <a:gs pos="0">
                    <a:srgbClr val="00ffcc"/>
                  </a:gs>
                  <a:gs pos="100000">
                    <a:srgbClr val="33ccff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Vladimir Script"/>
              <a:ea typeface="Vladimir Script"/>
            </a:endParaRPr>
          </a:p>
        </p:txBody>
      </p:sp>
      <p:pic>
        <p:nvPicPr>
          <p:cNvPr id="82" name="" descr=""/>
          <p:cNvPicPr/>
          <p:nvPr/>
        </p:nvPicPr>
        <p:blipFill>
          <a:blip r:embed="rId6"/>
          <a:stretch/>
        </p:blipFill>
        <p:spPr>
          <a:xfrm>
            <a:off x="7585200" y="0"/>
            <a:ext cx="1558800" cy="18018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11280" y="206064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3600" spc="-1" strike="noStrike">
                <a:solidFill>
                  <a:srgbClr val="ff9933"/>
                </a:solidFill>
                <a:latin typeface="Kahootz Face"/>
              </a:rPr>
              <a:t>Nan’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3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1T04:23:09Z</dcterms:created>
  <dc:creator>Admin</dc:creator>
  <dc:description/>
  <dc:language>en-US</dc:language>
  <cp:lastModifiedBy>Admin</cp:lastModifiedBy>
  <dcterms:modified xsi:type="dcterms:W3CDTF">2009-08-20T23:34:32Z</dcterms:modified>
  <cp:revision>17</cp:revision>
  <dc:subject/>
  <dc:title>Planets</dc:title>
</cp:coreProperties>
</file>